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3CF-5F8D-4ACB-B478-B1A33760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963-F9C6-4DE5-8A0F-30DB7B1A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EA0-310D-4707-B1D3-918C36BC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DA2-C8A2-4063-83C3-34F01E65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B0D-B146-4C6B-B712-2F644857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022-37BD-431E-9200-C496015E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20F-13F7-45C8-A9FE-1EC6BAEF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CDC-1E72-4204-B1EE-64D94A1E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92B-D3C4-4BF8-A903-6C82F8B2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46D-DAB7-4C8D-B4DD-28CF73D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7E6-8B7E-4BD5-A725-87E9B34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6BD-ECCF-495E-8CE2-4BCC81C4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273-7AAA-47DB-963D-657EDEEBE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ninth-street.blogspot.com/2011/12/are-successful-cities-products-of-cheap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, Communication, and Leisu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erman hackers attempt for an uncensored int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ean-Marc Uly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icle titles and URL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ckers plan space satellites to combat censorship- http://www.bbc.co.uk/news/technology-163670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Hackers Are Building a DIY Space Program to Put Their Own Uncensored Internet into Space- http://www.popsci.com/technology/article/2012-01/german-hackers-are-building-diy-space-program-put-their-own-uncensored-internet-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hackers are planning to create their own satellite network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letsbytecode.com/security/german-hackers-are-planning-to-create-their-own-satellite-network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rman Culture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3145044654_7bf73ce228"/>
          <p:cNvPicPr/>
          <p:nvPr/>
        </p:nvPicPr>
        <p:blipFill>
          <a:blip r:embed="rId2"/>
          <a:stretch/>
        </p:blipFill>
        <p:spPr>
          <a:xfrm>
            <a:off x="914400" y="1371600"/>
            <a:ext cx="7086600" cy="4762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304920" y="61722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28600" y="60958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04920" y="6019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ackers globalen Raster Treffen in Berl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838080" y="990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nsur in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esting Fact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action that motivated them to do this was the SOPA act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cking group current project is The Hackers global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hacker group formed after a chaos communication congress in Ber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re are no laws in space, the Hackers global grid can do as they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ckers global grid is going to make a hacker owned and operated spac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Hackers mee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305920" cy="5059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160640" y="618660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inth-street.blogspot.com/2011/12/are-successful-cities-products-of-chea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esting Facts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going to have ground satellites to track ones in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ope to be able to land an amateur astronaut o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st started taking contribution to help start this project in Aug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goal is to have an uncensored internet for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eting for this was held by the Chaos computer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front of congress in Berl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bc.co.uk/news/technology-163691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1333440" y="1558800"/>
            <a:ext cx="64771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esting Facts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working within a framework of their previous project, known as “Constel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 hacker group are going to use reverse GPS to track the location of the satell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st say that the project is only 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tellite could be disabled over specific terri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verse GPS would help transfer information from satellites to Earth more efficient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ongress in Berl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File:23C3-IMG_0156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200240" y="1174680"/>
            <a:ext cx="6743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1 The Hacker groups ongoing project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space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ker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kers global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2 Previous project wa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li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.1- 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.2- 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2:32:44Z</dcterms:created>
  <dc:creator>SCSadmin</dc:creator>
  <dc:description/>
  <dc:language>en-US</dc:language>
  <cp:lastModifiedBy>SCSadmin</cp:lastModifiedBy>
  <dcterms:modified xsi:type="dcterms:W3CDTF">2012-10-12T12:36:48Z</dcterms:modified>
  <cp:revision>12</cp:revision>
  <dc:subject/>
  <dc:title>Slide 1</dc:title>
</cp:coreProperties>
</file>